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C8DE-1C1F-4EED-B1BD-BEAF8A23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5B78-F132-479C-B8D0-B4185A0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3788-8526-4A5C-A1FF-82686D4C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191F-2D1C-4A2B-A63A-43E355AC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D43B-DED4-44C3-AC50-5D092C50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E2E4-CA9B-43A0-B5C2-5D04637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CBE-65BD-4CB8-B7AB-1FB07FC6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6F25-4F82-4CF2-8A25-E65A88DD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4B91-EA79-4F77-AFC4-8222AD6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BA5A-8220-48A5-B227-962593A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2684-81F7-40CA-AAF9-03B5F8A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7DD6-C51D-41A5-AEA4-080B886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6A6B-6B49-4E6B-A2A3-BD24B43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9ADD-BB6D-489F-BE90-BCA1E2F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E22-5155-4D5B-9B20-6A43DC54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E5D8-4A4B-41EC-BED6-BEBB65F8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C329-9F60-4798-8346-088F136D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320B-B6F1-48C8-97DB-E410D53F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49B8-0C79-499B-AD20-67EE0552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009B-5DEE-4273-B113-50350EE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BB63-C053-4D9E-BFC8-BAC0843F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EFB1-F276-46ED-9EFF-B8019530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B216-20E1-49CE-97CC-7BE68D9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7C057-B9D0-4158-93B3-1EC38D8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813A-3D79-40D5-BFFD-088E6E15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20D2-2409-41C6-A5F7-0A37438D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5AA8-B53D-4631-AD15-6D47262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E0E9-0675-4698-979D-BFA15A2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2D32-FA01-43F9-8B38-34320C92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83ED-4F62-40C5-8D4C-CF002F67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1FAC-DBB7-4367-A0BB-8F3C35A9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BF86-8316-4E0F-B5B6-FDC8E9A1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162D-2436-4DEA-A715-511C719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E48E-FD47-46FE-A97D-2E99379F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D212-BF83-4B56-BD14-A37E997D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97B1-3590-4287-811B-ED9F9012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3C04-0F54-4A3D-BEDF-651A4A6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FC31-5C40-4691-943C-F3930B6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2A4B-E3C5-4EC5-859B-81277CCA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77B3-FAA6-4614-ADDF-DE234A0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75E5-CAA0-4B42-B61E-05D7407E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8C93E-BF7C-4E6C-9DBF-4CB2EF9C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49E6-3AF5-4C9F-BEDF-824A7E1B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BD12-716A-4F15-9616-386D6330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67BA-156C-494D-BE12-158060D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76CB-BD78-4EC6-AC52-8FAF8CA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55B9D-15C7-4549-9D36-E07CCB3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06D1F-C68B-4A64-9412-D28EB9E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EE75-2730-4990-AD0E-229393D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F22E-D3BB-41FD-9C4B-9F5350F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1703-C9F3-4BF5-9585-BBD931D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04DD5-E5D2-4C4C-87C1-2FF5E49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B077C-26FB-4F8F-B6B4-373A48B0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9CE1E-2B88-483B-847E-6D74A37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2F95-A764-4204-A373-ACDCA9BF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B9EC-9B20-4EF9-AA4F-E7B39E6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DAE5-CC53-4A53-8BE7-004A5225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F0F3-0208-4B78-944F-FEDF5972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8BEE-64E7-4E8E-92DA-88203E1E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EA55-4E2D-4FCE-9632-74D2C1FA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89F4-514B-425E-97A0-585E9CC8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E612-9C03-45EB-B880-F6A9ADD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70CB-69B5-4FDB-842B-170DA41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FA6A-0282-405D-B841-3B6DB6D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F75B7-ABF3-4148-BCB6-E98F9E13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92D8-1DB7-4D9A-AA77-CA3F68B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CCF4-4D3A-4C1F-B48E-BAC374F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8572-D74C-471F-8356-6B1E685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A274-3792-4B36-AF0E-7096BB80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16CD-FF54-4391-A58C-2C6126B8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F8F0-D866-48E0-A991-5A634A9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D99A-46CD-4243-BE2F-D4379F0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2AE-EF09-4BA8-A31D-A422BBF618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6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0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2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2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4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14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4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7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8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9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40A-2AB0-4AC1-BBFD-E45DC16F5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F82E-3A02-4734-A98F-EADC9F328B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3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70C7-D12D-433A-AE10-F7AB166CE36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7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8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38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8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1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2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3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4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4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45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45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5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1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6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7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7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8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8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8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8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9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9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9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9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9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0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1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AB42-02A5-450A-9708-B40AAAB63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90C-7134-432E-B7B3-91A4F2A9CB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 elección de aliment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Eric Lundberg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2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a el desayu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1" name="Picture 5" descr="FrostedMiniWheats_Cereal"/>
          <p:cNvPicPr/>
          <p:nvPr/>
        </p:nvPicPr>
        <p:blipFill>
          <a:blip r:embed="rId1"/>
          <a:stretch/>
        </p:blipFill>
        <p:spPr>
          <a:xfrm>
            <a:off x="0" y="10666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7"/>
          <p:cNvSpPr/>
          <p:nvPr/>
        </p:nvSpPr>
        <p:spPr>
          <a:xfrm>
            <a:off x="2286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l cereal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3" name="Picture 10" descr="dennys"/>
          <p:cNvPicPr/>
          <p:nvPr/>
        </p:nvPicPr>
        <p:blipFill>
          <a:blip r:embed="rId2"/>
          <a:stretch/>
        </p:blipFill>
        <p:spPr>
          <a:xfrm>
            <a:off x="3048120" y="1295280"/>
            <a:ext cx="3352680" cy="2210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Orange_juice_without_any_fruits"/>
          <p:cNvPicPr/>
          <p:nvPr/>
        </p:nvPicPr>
        <p:blipFill>
          <a:blip r:embed="rId3"/>
          <a:stretch/>
        </p:blipFill>
        <p:spPr>
          <a:xfrm>
            <a:off x="6477120" y="1143000"/>
            <a:ext cx="2504880" cy="25146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3"/>
          <p:cNvSpPr/>
          <p:nvPr/>
        </p:nvSpPr>
        <p:spPr>
          <a:xfrm>
            <a:off x="3505320" y="4038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781680" y="4083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352680" y="3733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panqueques y huevos con tocino y choriz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7201080" y="373284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 repeatCount="1000">
                                  <p:stCondLst>
                                    <p:cond delay="2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27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8" autoRev="1" fill="hold">
                                          <p:stCondLst>
                                            <p:cond delay="227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a el almuerz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640" name="Picture 5" descr="http://3.bp.blogspot.com/_kQvP_4N8rbw/S_x11GMUoSI/AAAAAAAAAb0/Yj6azElHa9g/s400/WesternBaconDouble_Burger.jpg"/>
          <p:cNvPicPr/>
          <p:nvPr/>
        </p:nvPicPr>
        <p:blipFill>
          <a:blip r:embed="rId1"/>
          <a:stretch/>
        </p:blipFill>
        <p:spPr>
          <a:xfrm>
            <a:off x="-17640" y="1295280"/>
            <a:ext cx="3141720" cy="2210040"/>
          </a:xfrm>
          <a:prstGeom prst="rect">
            <a:avLst/>
          </a:prstGeom>
          <a:ln w="0">
            <a:noFill/>
          </a:ln>
        </p:spPr>
      </p:pic>
      <p:sp>
        <p:nvSpPr>
          <p:cNvPr id="641" name="TextBox 1"/>
          <p:cNvSpPr/>
          <p:nvPr/>
        </p:nvSpPr>
        <p:spPr>
          <a:xfrm>
            <a:off x="12600" y="35352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con con ques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2" name="Picture 7" descr="http://www.greenteatrial.com/wp-content/uploads/2010/07/iced-tea.jpg"/>
          <p:cNvPicPr/>
          <p:nvPr/>
        </p:nvPicPr>
        <p:blipFill>
          <a:blip r:embed="rId2"/>
          <a:stretch/>
        </p:blipFill>
        <p:spPr>
          <a:xfrm>
            <a:off x="3200400" y="1185840"/>
            <a:ext cx="2533680" cy="234936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"/>
          <p:cNvSpPr/>
          <p:nvPr/>
        </p:nvSpPr>
        <p:spPr>
          <a:xfrm>
            <a:off x="3200400" y="355932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é helad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6172200" y="3570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pas frit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5" name="Picture 9" descr="http://www.clickb4ueat.com/uploads/files1/arbys-curly-fries-ad2.jpg"/>
          <p:cNvPicPr/>
          <p:nvPr/>
        </p:nvPicPr>
        <p:blipFill>
          <a:blip r:embed="rId3"/>
          <a:stretch/>
        </p:blipFill>
        <p:spPr>
          <a:xfrm>
            <a:off x="5857920" y="1185840"/>
            <a:ext cx="2600280" cy="2382840"/>
          </a:xfrm>
          <a:prstGeom prst="rect">
            <a:avLst/>
          </a:prstGeom>
          <a:ln w="0">
            <a:noFill/>
          </a:ln>
        </p:spPr>
      </p:pic>
      <p:sp>
        <p:nvSpPr>
          <p:cNvPr id="646" name="TextBox 7"/>
          <p:cNvSpPr/>
          <p:nvPr/>
        </p:nvSpPr>
        <p:spPr>
          <a:xfrm>
            <a:off x="2108160" y="5778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ándwich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7" name="Picture 11" descr="http://www.easymealrecipes.net/wp-content/uploads/2009/02/french-loaf-club-sandwich.jpg"/>
          <p:cNvPicPr/>
          <p:nvPr/>
        </p:nvPicPr>
        <p:blipFill>
          <a:blip r:embed="rId4"/>
          <a:stretch/>
        </p:blipFill>
        <p:spPr>
          <a:xfrm>
            <a:off x="1589040" y="3865680"/>
            <a:ext cx="2519280" cy="19256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8"/>
          <p:cNvSpPr/>
          <p:nvPr/>
        </p:nvSpPr>
        <p:spPr>
          <a:xfrm>
            <a:off x="5486400" y="57783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ca col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9" name="Picture 13" descr="http://www.amphion.be/images/cokezerovisID.jpg"/>
          <p:cNvPicPr/>
          <p:nvPr/>
        </p:nvPicPr>
        <p:blipFill>
          <a:blip r:embed="rId5"/>
          <a:stretch/>
        </p:blipFill>
        <p:spPr>
          <a:xfrm>
            <a:off x="5089680" y="3889440"/>
            <a:ext cx="260640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a el cen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1" name="Picture 5" descr="http://thecriticalpath.info/wp-content/uploads/2010/05/flank_steak.jpg"/>
          <p:cNvPicPr/>
          <p:nvPr/>
        </p:nvPicPr>
        <p:blipFill>
          <a:blip r:embed="rId1"/>
          <a:stretch/>
        </p:blipFill>
        <p:spPr>
          <a:xfrm>
            <a:off x="63360" y="1371600"/>
            <a:ext cx="2832120" cy="1905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St. Louis ribs"/>
          <p:cNvPicPr/>
          <p:nvPr/>
        </p:nvPicPr>
        <p:blipFill>
          <a:blip r:embed="rId2"/>
          <a:stretch/>
        </p:blipFill>
        <p:spPr>
          <a:xfrm>
            <a:off x="2906640" y="137160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http://thehiphopupdate.com/wp-content/uploads/2010/04/Iced-cold-lemonade.jpg"/>
          <p:cNvPicPr/>
          <p:nvPr/>
        </p:nvPicPr>
        <p:blipFill>
          <a:blip r:embed="rId3"/>
          <a:stretch/>
        </p:blipFill>
        <p:spPr>
          <a:xfrm>
            <a:off x="5486400" y="1371600"/>
            <a:ext cx="3657600" cy="1905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9" descr="http://themoderatevoice.com/wordpress-engine/files/2009-june/pepsi.gif"/>
          <p:cNvPicPr/>
          <p:nvPr/>
        </p:nvPicPr>
        <p:blipFill>
          <a:blip r:embed="rId4"/>
          <a:stretch/>
        </p:blipFill>
        <p:spPr>
          <a:xfrm>
            <a:off x="5334120" y="4114800"/>
            <a:ext cx="3429000" cy="198108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"/>
          <p:cNvSpPr/>
          <p:nvPr/>
        </p:nvSpPr>
        <p:spPr>
          <a:xfrm>
            <a:off x="5943600" y="3505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imona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TextBox 2"/>
          <p:cNvSpPr/>
          <p:nvPr/>
        </p:nvSpPr>
        <p:spPr>
          <a:xfrm>
            <a:off x="5486400" y="6400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eps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TextBox 3"/>
          <p:cNvSpPr/>
          <p:nvPr/>
        </p:nvSpPr>
        <p:spPr>
          <a:xfrm>
            <a:off x="320040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st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380880" y="3559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ile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9" name="Picture 11" descr="http://www.iupui.edu/~psyclubs/pizza_ua%5B1%5D.jpg"/>
          <p:cNvPicPr/>
          <p:nvPr/>
        </p:nvPicPr>
        <p:blipFill>
          <a:blip r:embed="rId5"/>
          <a:stretch/>
        </p:blipFill>
        <p:spPr>
          <a:xfrm>
            <a:off x="200160" y="4295880"/>
            <a:ext cx="3260520" cy="19526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5"/>
          <p:cNvSpPr/>
          <p:nvPr/>
        </p:nvSpPr>
        <p:spPr>
          <a:xfrm>
            <a:off x="380880" y="63230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izza de pepperoni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4000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0Z</dcterms:created>
  <dc:creator>lundbergeri</dc:creator>
  <dc:description/>
  <dc:language>en-US</dc:language>
  <cp:lastModifiedBy>Main</cp:lastModifiedBy>
  <dcterms:modified xsi:type="dcterms:W3CDTF">2011-04-15T00:57:52Z</dcterms:modified>
  <cp:revision>10</cp:revision>
  <dc:subject/>
  <dc:title>Lo que es para…</dc:title>
</cp:coreProperties>
</file>